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C3AA-94C5-46E9-91E6-2FEE7F63B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00B0-F6D6-41D1-8678-A4D14254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B64F-3FE7-477E-8C5A-7B6B48FC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6212-F735-45F7-949E-C6C2A205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B607-4FF9-437E-9EED-0A68830B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796F-DC01-4809-8C2B-833E1BCC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D7FB-DE47-4BCA-8F49-D5789A1C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8845-DA05-4AFC-94D3-261F236C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4DA4-72FA-4BB8-B4A8-220A1043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14EC-5351-460C-A4B2-3E23C2D4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6B03-086C-403C-A2F7-99B4C31D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4A93-3C30-410D-97F1-E25EA780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5C49-D6F6-49DA-8673-1B42C946C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y, Jasmine Mor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743200" y="914400"/>
            <a:ext cx="38098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rush Script Std"/>
              </a:rPr>
              <a:t>Vocabulary</a:t>
            </a:r>
            <a:endParaRPr b="0" lang="en-US" sz="4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rush Script Std"/>
              <a:ea typeface="Brush Script St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-Mail- electronic mail which allows individuals with an account to send messages to another person with an e-mail acco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RC- internet relay chat was developed in 1988 by Jarkko Oikarinen and allows instant online communicating with someone else who is also online by typing messages back and fo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BS- bulletin board service allows a user to participate in a discussion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00400" y="228600"/>
            <a:ext cx="14097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INTRO</a:t>
            </a:r>
            <a:endParaRPr b="0" lang="en-US" sz="4000" spc="1" strike="noStrike">
              <a:ln w="9360">
                <a:solidFill>
                  <a:srgbClr val="ff0066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cc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HTTP- hypertext transfer protocol is used for handling the transmission of pages between a web server and a web brow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TP- file transfer protocol is used to rapidly transfer 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ELNET- a program used on networks such as the internet to allow users to remotely log on to a server on the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GOPHER- one of the first widespread internet browsing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NTRANET- a network used by a single organization and only accessible by authorized us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FIREWALL- a network security system that prevents unauthorized network ac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98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98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7c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EXTRANET- an extended intranet that provides various level of access to authorized members of the pub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ONLINE PROFILING- a marketing technique that collects online data about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COOKIES- small files that contain information about the web sites an individual has visi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USENET- a collection of servers that offer netne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BANDWIDTH- the amount of data and the speed at which the data can travel over the transmission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LIENT- a computer that access a server to request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SL- digital subscrib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THERNET- a widely used protocol for lans that uses a bus or star topology and connects the network devices by twisted-pair wiring, coaxial cable, or fiber optic c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NETIQUETTE- the etiquette that should be followed when using a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ROTOCOL- a stand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OPLOGY- the logical arrangement of the nodes on a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WIRELESS NETWORKS- a type of network that does not require the use of c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NETWORK INTERFACE CARD- a circuit board that goes into the base unit of a computer or other device in a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ISP- internet service provider is a company that offers access to the internet for a f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WEB SITE- a series or related web p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5:37:48Z</dcterms:created>
  <dc:creator>004student</dc:creator>
  <dc:description/>
  <dc:language>en-US</dc:language>
  <cp:lastModifiedBy>004student</cp:lastModifiedBy>
  <dcterms:modified xsi:type="dcterms:W3CDTF">2009-04-15T15:55:48Z</dcterms:modified>
  <cp:revision>4</cp:revision>
  <dc:subject/>
  <dc:title>Slide 1</dc:title>
</cp:coreProperties>
</file>